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26A-DFED-415B-A6A4-4D6AC0EE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C0F-2B48-4DEF-AA4A-817FBA07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D5F-FF32-4024-A471-675A9E56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74D-8021-4EB8-9D42-CBE89EA9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6FB4-6E24-45EA-AFA7-FB4D29C9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D7B5-9711-4837-9C93-7D1009D3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4362-ABC5-4F7E-B75B-A6966284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819E-E13F-490B-97D9-8618D656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514D-F155-4964-9534-55E438EC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568F-18C9-46EB-B082-8E381DA7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BCA4-5FD0-4552-8962-3A2C2C02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4F4-EE47-49A0-829E-CE47FE07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081B-0AF2-4C0E-BEC9-4F58575E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EA97-7696-4BCC-9E06-2C630A93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A35F-D213-4FBD-876B-E31F571D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967B-FC3B-413F-A89C-1FAFC83F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1933-3E41-405A-AA0D-48B2E1BC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84673-138B-479C-B8C6-6A4E932F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8C28E-6706-4904-BF80-9550B5BC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813C4-EA92-4A7D-84C3-7D99D75E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4DEF9-5614-4F17-B124-BA39E6AA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D81AA-C0A2-49A7-9773-1BAF2E62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89A-FD71-4AE8-8415-CAE2B144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3366E-3FB0-4CCA-9F7D-36394552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2A946-E221-4AF7-A1C5-97016FA6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1FC0B-89CC-4A8B-A500-B8751164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55AC3-0E62-4002-B4D3-2E1DA9E6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F1600-5C1B-4457-92FC-AFCF2403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0AF29-6B7C-4782-AF90-2F1C9632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ACD9E-1567-43E7-9B4D-55522118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D30CB4-03FE-4A1F-A70B-4066C83C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82DFB6-9882-4549-AD44-DBA10FB0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58971-5996-484F-A686-B252DC6B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71CE-D4F0-4047-B1A2-14E5ABAF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236CB-9D07-46AC-A9F2-2B21F522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71B1F6-B7E9-4907-AEAF-BDF2FF44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2E60A-7BDD-41F2-BBDC-72500FF9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FA460-6E56-45B5-ADD1-939A2571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AB449-A12F-4D90-A297-DB7231DF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1F7F27-2EC9-4974-BD7B-9C10A6BE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36347-FE27-4EF2-97DE-9D2B6452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596D3E-152D-483D-AAD2-BA603AF1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6FE1CA-C8C9-4D41-91F4-FF77D113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8BD-199D-4222-AC88-57E8B929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F199-7FA1-4C1C-B06C-D325178A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BE4-8AD6-41E9-8B2F-CC6EACA9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795-FACE-4560-940C-3D3D94D7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041-19BD-48AC-8A13-9B832118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C56A-78DD-4027-BDDF-95A292D7D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3197-B4B2-4B51-9316-C7AF629750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3A65-B12F-4998-AD7F-F3699D5C93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C78C-250D-4EC6-B352-45015104BE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Природа (39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ВА №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ОВЫЙ ВНУТРЕННИЙ ПРОДУКТ (ВВП)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ЕЙШИЙ ПОКАЗАТЕЛЬ СН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 МЕТОДА РАСЧЕТА ВВ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Organization Chart 7"/>
          <p:cNvGrpSpPr/>
          <p:nvPr/>
        </p:nvGrpSpPr>
        <p:grpSpPr>
          <a:xfrm>
            <a:off x="431640" y="1865160"/>
            <a:ext cx="8208000" cy="4102560"/>
            <a:chOff x="431640" y="1865160"/>
            <a:chExt cx="8208000" cy="4102560"/>
          </a:xfrm>
        </p:grpSpPr>
        <p:cxnSp>
          <p:nvCxnSpPr>
            <p:cNvPr id="233" name="_s1028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230080" y="2810880"/>
              <a:ext cx="821160" cy="2210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6" name="_s1029"/>
            <p:cNvCxnSpPr>
              <a:stCxn id="237" idx="0"/>
              <a:endCxn id="235" idx="2"/>
            </p:cNvCxnSpPr>
            <p:nvPr/>
          </p:nvCxnSpPr>
          <p:spPr>
            <a:xfrm flipH="1" flipV="1" rot="5400000">
              <a:off x="3020400" y="2810520"/>
              <a:ext cx="821160" cy="2210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5" name="_s1030"/>
            <p:cNvSpPr/>
            <p:nvPr/>
          </p:nvSpPr>
          <p:spPr>
            <a:xfrm>
              <a:off x="2642040" y="186516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ТИПЫ 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ЫПУСКА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_s1031"/>
            <p:cNvSpPr/>
            <p:nvPr/>
          </p:nvSpPr>
          <p:spPr>
            <a:xfrm>
              <a:off x="431640" y="432684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ЫНОЧНЫЙ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_s1032"/>
            <p:cNvSpPr/>
            <p:nvPr/>
          </p:nvSpPr>
          <p:spPr>
            <a:xfrm>
              <a:off x="4851360" y="432684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НЕРЫНОЧНЫЙ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ыночный выпуск включает товары и услу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еализуемые по экономически значимым ценам путем продажи или барте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едоставляемые работникам в качестве оплаты труда в натуральной фор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изводимые одним заведением предприятия и поставляемые другим заведениям того же предприятия для использования в производстве в том же или последующих период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товую продукцию и незавершенное производство, поступающие в запасы материальных оборотных средств у производителя и предназначенные для рыночного использ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Нерыночный выпуск включает товары и услу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оизводимые экономическими единицами для их собственного конечного потребления или накоп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едоставляемые бесплатно или по ценам, не имеющим экономического значения, другим институциональным единицам, включая услуги, оказываемые обществу в цел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отовую продукцию и незавершенное производство, предназначенные для нерыночного использования и поступающие в запасы материальных оборотных средств у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Основная цена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на, получаемая производителем за товары и услуги, исключая любые подлежащие уплате налоги на продукты и включая субсидии на проду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Цена производителя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на, получаемая производителем за товары и услуги, включая подлежащие уплате налоги на продукты и исключая субсидии на проду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Налоги на продукты-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э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логи, взимаемые пропорционально количеству или стоимости товаров и услуг, производимых, продаваемых или импортируемых предприятиями- резиден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 ним относятся следующие наиболее распространенные нало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) налог на добавленную стоимость(НДС) и налоги типа НД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2) акциз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3) налоги на продажи, покупки, налог с оборота и т.п.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4) налоги на отдельные виды услу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5) налоги на прибыль фискальных монопол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6) налоги на импорт и экспорт, таможенные пошл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убсидии на продукты-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субсидии, выплачиваемые обычно пропорционально количеству или стоимости товаров и услуг, производимых, продаваемых или импортируемых предприятиями- резиден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асходы на промежуточное потребление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стоимость товаров и рыночных услуг, потребленных в течение данного периода с целью производства других товаров или усл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НИ ВКЛЮЧАЮ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траты сырья, материалов, топлива, энергии, семян, кормов, продуктов питания, медикаментов, канцелярских принадлежностей, спецодежды и т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плату работ и услуг, предоставленных другими предприятиями и отдельными лиц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ходы на командировки в части оплаты проезда и гостини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Природа (10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ловой внутренний продукт(ВВП)-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дин из важнейших показателей системы национальных счетов, который характеризует конечный результат производственной деятельности экономических единиц- резидентов и измеряет стоимость товаров и услуг, произведенных этими единицами для конечного исполь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етод конечного использования ВВП определяется как сумма следующих компонентов: расходы на конечное потребление товаров и услуг, валовое накопление, сальдо экспорта и импорта товаров и усл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Расходы на конечное потребление товаров и услуг —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ходы домашних хозяйств-резидентов на потребительские товары и услуги, а также расходы учреждений государственного управления (бюджетных организаций) и некоммерческих организаций, обслуживающих домашние хозяйства, на товары и услуги для индивидуального и коллективного потребления. Та­кая группировка показывает, кто финансирует расходы на конечное потреб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асходы на конечное потребление домашних хозяйст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Tahoma"/>
              </a:rPr>
              <a:t>включают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сходы на покупку потребительских товаров и услуг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требление товаров и услуг, полученных в натуральной форме в порядке оплаты труда, подарков и т. д.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требление товаров и услуг, произведенных домашними хозяйствами для собственного конечного потребле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1993г. ВВЕДЕН ПОКАЗАТЕЛЬ ФАКТИЧЕСКОГО КОНЕЧНОГО ПОТРЕБЛ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аловое накопление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чистое приобретение резидентами товаров и услуг, произведенных и оказанных в текущем периоде, но не потребленных в н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ловое накопление включает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копление основного капит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зменение запасов материальных оборот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чистое приобретение ценносте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ловое накопление основного капитала представляет собой вложение в объекты основного капитала для создания нового дохода в будущем  путем использования их в производств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тличие ВВП от национального доход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это показатель произведенного продукта, который представляет собой стоимость произведенных конечных товаров и усл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 это внутренний продукт, потому что он произведен резидентами. К резидентам относятся все экономические единицы независимо от их национальной принадлежности и гражданства, имеющий центр экономического интереса на экономической территории данной стран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 это валовой продукт, потому что он исчисляется до вычета потребления основного капитала. Потребление основного капитала представляет собой уменьшение стоимости основного капитала в течение отчетного периода в результате его физического и морального износа и случайных повреждений, не носящих катастрофического характе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НОВНОЙ КАПИТАЛ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то активы, являющиеся результатом производства, которые многократно используются в процессе производства: здания и сооружения, машины и оборудование; скот племенной, рабочий; сады, виноградники и другие насаждения; затраты на геологоразведочные работы; затраты на программное обеспечение; оригиналы литературных и художественных произвед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ловое накопление основного капитала определяется как приобре­тение активов за вычетом выбытия новых и существующих основных фон­д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Оценка составных элементов валового накопления основного капитала производитс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покупке основного капитала по ценам приобретения (ценам покупателя), т. е. включая все затраты на передачу права собственности (стоимость услуг, оказанных адвокатами, агентами по операциям с недвижимостью и другими посредниками, пошлины, комиссионные, налоги и т. п.)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производстве основного капитала для собственного использования по основным ценам или по затратам на производство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зменение запасов материальных оборотных средств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это изменение стоимости произведенных запасов, незавершенного производства, готовой продукции и товаров для перепрода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плата труда наемных работников представляет собой вознаграждение в денежной или натуральной форме, которое должно быть выплачено работодателем наемному работнику за работу, выполненную в отчетн­ом период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на учитывается на основе начисленных сумм и складывается из двух основных компонентов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4038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работная пла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8320" y="2923920"/>
            <a:ext cx="4038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числения работодателей на социальное страхова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кономическая территория- это территория, административно управляемая правительством данной страны, в пределах которой лица, товары и деньги могут свободно перемеща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ВП может быть исчислен следующими тремя методам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валовой добавленной стоимости (производственный метод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компонентов конечного использования (метод конечного использован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первичных доходов (распределительный метод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и расчете производственным методом ВВП исчисляется путем суммирования валовой добавленной стоимости всех производственных единиц- резидентов, сгруппированных по отраслям или сектора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аловая добавленная стоимость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-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зница между стоимостью произведенных товаров и оказанных услуг(выпуском) и стоимостью товаров и услуг, полностью потребленных в процессе производств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Выпуск-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э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тоимость товаров и услуг, произведенных и оказанных экономическими единицами- резидентами за рассматриваемый пери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ыпуск включает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се товары независимо от их исполь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луги, предоставленные другим институциональным единицам, в частности, нерыночные услуги органов государственного управления и некоммерческих организ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луги домашних хозяйств по проживанию в собственном жилище и домашние услуги, оказываемые оплачиваемой домашней прислуг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9:13:19Z</dcterms:created>
  <dc:creator>Лена</dc:creator>
  <dc:description/>
  <dc:language>en-US</dc:language>
  <cp:lastModifiedBy>LEGION</cp:lastModifiedBy>
  <dcterms:modified xsi:type="dcterms:W3CDTF">2016-01-04T14:02:00Z</dcterms:modified>
  <cp:revision>11</cp:revision>
  <dc:subject/>
  <dc:title>ГЛАВА №7</dc:title>
</cp:coreProperties>
</file>